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2E19-B135-48FE-AD52-8CFC0A2E18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onjour, déplacez moi dans le coin à gau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coloriage magique est un soutient du cours et pemet aux élèves de travailler à la maison (avec l'aide des parents qui se cultivent auss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A ou B le relais est commandé et la lampe doit s'étei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 repos la lampe devrait être allumée or elle est éte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6 à 1 permet de vérifier que le relais fonctionne correc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nne provient d'une coupure soit dans la lampe soit à la masse soit aux contacts de la l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a mas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6 est le complémentaire de la l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e 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ande normale par la 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ampe doit s'allumer si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 le casprésenté elle est éteinte et sa masse est au p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la masse ne se fait pas, 2 raisons possib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La commande du relais n'a pas fonctionnée alors qu'elle est command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anguette du relais ne fait pas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s 2 cas on accuse le re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e 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I = 0 alors RI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s ce montage K ne peut pas être commandé : A &amp; /A 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&amp; /A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mple de pa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5 = BCc6 = 1 donc le fonctionnement du relais est cohé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nne est en comma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 précédemment mais le court circuit peut n'être que sur l'interrupteur A (si c'est le seul cas de pan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5 = 0implique que le relais n'est pas commandé, la lampe étant allumée il y a donc un court circuit sur la pu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a masse sur un normalement ferm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ourant ne passe pas en commande donc le relais reste au repos; comme la lampe est commandée par un "normalement fermé" elle s'al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fonctionnement est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 = / (A ou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bobine du relais est sous 12 voltse et tire le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malement le circuit de puissance aurait du s'ouvrir et la lampe s'étein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le reste allumée, BCc5 à 1 permet de voir que le défaut ne provient pas de la commande, BCc6 à 0 permet de confirmer que la lampe est allum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 possibilités de panne : coupure à la commande ou court circuit à la pu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e plus sur un normalement ferm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 repos la lampe est allum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/ (A ou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36D-CFC8-429C-91B8-9D643818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DAC-7582-45D5-8619-B42B6B5D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636D-0377-4239-A361-05270AED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FE55-12C4-4E17-B259-350EEA26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1EE-6A6F-41D8-9E55-BFED0FC7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C5F-4D7E-404E-8E31-DCB60BE3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2B2-C976-434A-B7AF-C884747B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B8B-29E4-4B14-89C0-E56319B2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2A7-4500-4018-98CC-215B9C2D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1FD-5C25-48A9-B446-EC5FCEEF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6C7-B84E-4A40-B1E6-739F6371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924-4928-4085-96ED-62209EDD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5D09-93D5-4221-8341-30FBDEE33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andes par le plus et par la mas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t d’une commande, d’un relais, d’un actionneur, d’un point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ser avec le cours pour corriger le coloriage magique, afficher les commentaires du présent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589800" y="4317840"/>
            <a:ext cx="669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605040" y="333360"/>
            <a:ext cx="3278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8152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04972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31828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18344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18344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42240" y="5067360"/>
            <a:ext cx="48096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18344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405480" y="5048280"/>
            <a:ext cx="854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29740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48452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99572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995720" y="45291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918480" y="3468600"/>
            <a:ext cx="74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1828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9740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8452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99572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99572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905440" y="79056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00640" y="2489040"/>
            <a:ext cx="87804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297400" y="2031840"/>
            <a:ext cx="2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7544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17544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9740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715176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18992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897680" y="487044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40360" y="458136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21128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 ou B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5219280" y="1700280"/>
            <a:ext cx="1009800" cy="3600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524720" y="5013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716436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84720" y="2276640"/>
            <a:ext cx="1866960" cy="2796840"/>
          </a:xfrm>
          <a:custGeom>
            <a:avLst/>
            <a:gdLst/>
            <a:ahLst/>
            <a:rect l="l" t="t" r="r" b="b"/>
            <a:pathLst>
              <a:path w="1176" h="1762">
                <a:moveTo>
                  <a:pt x="636" y="1762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529272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245440" y="4508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81440" y="508464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076720" y="1965240"/>
            <a:ext cx="355320" cy="1032120"/>
            <a:chOff x="5076720" y="1965240"/>
            <a:chExt cx="355320" cy="1032120"/>
          </a:xfrm>
        </p:grpSpPr>
        <p:sp>
          <p:nvSpPr>
            <p:cNvPr id="657" name=""/>
            <p:cNvSpPr/>
            <p:nvPr/>
          </p:nvSpPr>
          <p:spPr>
            <a:xfrm flipH="1">
              <a:off x="5297040" y="1965240"/>
              <a:ext cx="1350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76720" y="292428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905440" y="1965240"/>
            <a:ext cx="610920" cy="1103400"/>
            <a:chOff x="5905440" y="1965240"/>
            <a:chExt cx="610920" cy="1103400"/>
          </a:xfrm>
        </p:grpSpPr>
        <p:sp>
          <p:nvSpPr>
            <p:cNvPr id="660" name=""/>
            <p:cNvSpPr/>
            <p:nvPr/>
          </p:nvSpPr>
          <p:spPr>
            <a:xfrm>
              <a:off x="5905440" y="1965240"/>
              <a:ext cx="26964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45080" y="2997360"/>
              <a:ext cx="712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094360" y="4251240"/>
            <a:ext cx="557280" cy="1049400"/>
            <a:chOff x="5094360" y="4251240"/>
            <a:chExt cx="557280" cy="1049400"/>
          </a:xfrm>
        </p:grpSpPr>
        <p:sp>
          <p:nvSpPr>
            <p:cNvPr id="663" name=""/>
            <p:cNvSpPr/>
            <p:nvPr/>
          </p:nvSpPr>
          <p:spPr>
            <a:xfrm>
              <a:off x="5094360" y="4251240"/>
              <a:ext cx="223920" cy="52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80360" y="5229360"/>
              <a:ext cx="712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7020000" y="4262400"/>
            <a:ext cx="228600" cy="1109880"/>
            <a:chOff x="7020000" y="4262400"/>
            <a:chExt cx="228600" cy="1109880"/>
          </a:xfrm>
        </p:grpSpPr>
        <p:sp>
          <p:nvSpPr>
            <p:cNvPr id="666" name=""/>
            <p:cNvSpPr/>
            <p:nvPr/>
          </p:nvSpPr>
          <p:spPr>
            <a:xfrm flipH="1">
              <a:off x="7183800" y="4262400"/>
              <a:ext cx="64800" cy="51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20000" y="5300640"/>
              <a:ext cx="7164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 flipH="1">
            <a:off x="5219280" y="1557360"/>
            <a:ext cx="144360" cy="35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292720" y="2492280"/>
            <a:ext cx="0" cy="180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7237080" y="3933720"/>
            <a:ext cx="142920" cy="17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178760" y="4292640"/>
            <a:ext cx="920520" cy="793800"/>
          </a:xfrm>
          <a:custGeom>
            <a:avLst/>
            <a:gdLst/>
            <a:ahLst/>
            <a:rect l="l" t="t" r="r" b="b"/>
            <a:pathLst>
              <a:path w="580" h="500">
                <a:moveTo>
                  <a:pt x="580" y="384"/>
                </a:moveTo>
                <a:lnTo>
                  <a:pt x="4" y="380"/>
                </a:lnTo>
                <a:lnTo>
                  <a:pt x="0" y="500"/>
                </a:lnTo>
                <a:lnTo>
                  <a:pt x="0" y="292"/>
                </a:lnTo>
                <a:lnTo>
                  <a:pt x="173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627280" y="260280"/>
            <a:ext cx="698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c5=1, BCc6=0, Lampe étei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780000" y="4508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5653080" y="4508280"/>
            <a:ext cx="151128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524720" y="4076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6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70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677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679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686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720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6229440" y="4317840"/>
            <a:ext cx="669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973760" y="33336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42116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68936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792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2308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822720" y="4262400"/>
            <a:ext cx="651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2308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581880" y="5067360"/>
            <a:ext cx="48096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2308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45120" y="5048280"/>
            <a:ext cx="854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734000" y="4251240"/>
            <a:ext cx="22392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93704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2416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3536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635360" y="45291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558120" y="3468600"/>
            <a:ext cx="74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95792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936680" y="1965240"/>
            <a:ext cx="1350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93704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12416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3536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3536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545080" y="79056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45080" y="1965240"/>
            <a:ext cx="2700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940280" y="2489040"/>
            <a:ext cx="87804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937040" y="2031840"/>
            <a:ext cx="2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81508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81508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93704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79140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2956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537320" y="487044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851280" y="501336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85092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éteint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419640" y="5229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93236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929040" y="2349360"/>
            <a:ext cx="186696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6803640" y="4292640"/>
            <a:ext cx="7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04000" y="4869000"/>
            <a:ext cx="865080" cy="21564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545" y="46"/>
                </a:moveTo>
                <a:lnTo>
                  <a:pt x="0" y="4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80400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084720" y="4653000"/>
            <a:ext cx="1513080" cy="1297080"/>
          </a:xfrm>
          <a:custGeom>
            <a:avLst/>
            <a:gdLst>
              <a:gd name="textAreaLeft" fmla="*/ 623520 w 1513080"/>
              <a:gd name="textAreaRight" fmla="*/ 889560 w 151308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669080" y="4581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1964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846920" y="515772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164360" y="907920"/>
            <a:ext cx="144360" cy="38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1280" y="1916280"/>
            <a:ext cx="27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mpe grillé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2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094440" y="4346640"/>
            <a:ext cx="8096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178680" y="5091120"/>
            <a:ext cx="63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62480" y="189000"/>
            <a:ext cx="3108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8600" y="5992920"/>
            <a:ext cx="2729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92760" y="5132520"/>
            <a:ext cx="4809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4656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915240" y="39178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91524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675480" y="4317840"/>
            <a:ext cx="45720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91524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935600" y="4238640"/>
            <a:ext cx="21096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2748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356000" y="4238640"/>
            <a:ext cx="609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40200" y="43736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840200" y="45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662880" y="3429000"/>
            <a:ext cx="704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146560" y="15382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5127120" y="1876320"/>
            <a:ext cx="1270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127480" y="2416320"/>
            <a:ext cx="0" cy="18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356000" y="1893960"/>
            <a:ext cx="60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40200" y="1994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840200" y="21463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03840" y="662040"/>
            <a:ext cx="703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703840" y="1876320"/>
            <a:ext cx="2556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130720" y="2416320"/>
            <a:ext cx="831960" cy="256356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27480" y="19432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59440" y="1943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959440" y="1133280"/>
            <a:ext cx="0" cy="80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127480" y="153828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784920" y="5091120"/>
            <a:ext cx="141480" cy="4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919920" y="493236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310520" y="4941720"/>
            <a:ext cx="1011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068720" y="465300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4098960" y="4975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éteint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076360" y="1628640"/>
            <a:ext cx="1009800" cy="360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708360" y="51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514368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140360" y="2349360"/>
            <a:ext cx="186660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6876720" y="4365720"/>
            <a:ext cx="142920" cy="17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37440" y="4076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948360" y="3933720"/>
            <a:ext cx="863640" cy="1224000"/>
          </a:xfrm>
          <a:custGeom>
            <a:avLst/>
            <a:gdLst/>
            <a:ahLst/>
            <a:rect l="l" t="t" r="r" b="b"/>
            <a:pathLst>
              <a:path w="544" h="771">
                <a:moveTo>
                  <a:pt x="0" y="0"/>
                </a:moveTo>
                <a:lnTo>
                  <a:pt x="0" y="771"/>
                </a:lnTo>
                <a:lnTo>
                  <a:pt x="0" y="635"/>
                </a:lnTo>
                <a:lnTo>
                  <a:pt x="544" y="635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029440" y="4653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237360" y="4346640"/>
            <a:ext cx="8096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321600" y="5091120"/>
            <a:ext cx="634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757760" y="189000"/>
            <a:ext cx="3108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781520" y="5992920"/>
            <a:ext cx="2728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35680" y="5132520"/>
            <a:ext cx="4809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28948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058160" y="39178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5816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818400" y="4317840"/>
            <a:ext cx="45720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05816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27040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498920" y="4238640"/>
            <a:ext cx="6094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83120" y="43736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983120" y="45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805440" y="3429000"/>
            <a:ext cx="704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289480" y="15382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5270040" y="1876320"/>
            <a:ext cx="1270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270400" y="2416320"/>
            <a:ext cx="0" cy="18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98920" y="1893960"/>
            <a:ext cx="609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83120" y="1994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983120" y="21463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846760" y="662040"/>
            <a:ext cx="703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846760" y="1876320"/>
            <a:ext cx="2556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273640" y="2416320"/>
            <a:ext cx="831960" cy="256356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270400" y="19432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102360" y="1943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102360" y="1133280"/>
            <a:ext cx="0" cy="80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270400" y="153828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062840" y="493236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736040" y="487692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95640" y="501336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4241880" y="4975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1, Lampe éteinte, BCc5 = 1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219640" y="1628640"/>
            <a:ext cx="0" cy="360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19640" y="5300640"/>
            <a:ext cx="201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528624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7019640" y="4005360"/>
            <a:ext cx="142920" cy="208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596360" y="3573360"/>
            <a:ext cx="237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95640" y="4437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078520" y="4238640"/>
            <a:ext cx="501120" cy="1135080"/>
            <a:chOff x="5078520" y="4238640"/>
            <a:chExt cx="501120" cy="1135080"/>
          </a:xfrm>
        </p:grpSpPr>
        <p:sp>
          <p:nvSpPr>
            <p:cNvPr id="810" name=""/>
            <p:cNvSpPr/>
            <p:nvPr/>
          </p:nvSpPr>
          <p:spPr>
            <a:xfrm>
              <a:off x="5078520" y="4238640"/>
              <a:ext cx="21096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06920" y="5300640"/>
              <a:ext cx="7272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4300560" y="1557360"/>
            <a:ext cx="992160" cy="3600360"/>
          </a:xfrm>
          <a:custGeom>
            <a:avLst/>
            <a:gdLst/>
            <a:ahLst/>
            <a:rect l="l" t="t" r="r" b="b"/>
            <a:pathLst>
              <a:path w="625" h="2268">
                <a:moveTo>
                  <a:pt x="624" y="0"/>
                </a:moveTo>
                <a:lnTo>
                  <a:pt x="612" y="2155"/>
                </a:lnTo>
                <a:lnTo>
                  <a:pt x="0" y="2164"/>
                </a:lnTo>
                <a:lnTo>
                  <a:pt x="612" y="2155"/>
                </a:lnTo>
                <a:lnTo>
                  <a:pt x="625" y="226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5506920" y="5300280"/>
            <a:ext cx="1440000" cy="73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875640" y="5084640"/>
            <a:ext cx="360000" cy="936360"/>
            <a:chOff x="6875640" y="5084640"/>
            <a:chExt cx="360000" cy="936360"/>
          </a:xfrm>
        </p:grpSpPr>
        <p:sp>
          <p:nvSpPr>
            <p:cNvPr id="815" name=""/>
            <p:cNvSpPr/>
            <p:nvPr/>
          </p:nvSpPr>
          <p:spPr>
            <a:xfrm>
              <a:off x="6875640" y="5084640"/>
              <a:ext cx="164880" cy="49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50320" y="5949360"/>
              <a:ext cx="8532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7020000" y="4724280"/>
            <a:ext cx="863640" cy="1297080"/>
          </a:xfrm>
          <a:custGeom>
            <a:avLst/>
            <a:gdLst/>
            <a:ahLst/>
            <a:rect l="l" t="t" r="r" b="b"/>
            <a:pathLst>
              <a:path w="544" h="817">
                <a:moveTo>
                  <a:pt x="0" y="0"/>
                </a:moveTo>
                <a:lnTo>
                  <a:pt x="0" y="137"/>
                </a:lnTo>
                <a:lnTo>
                  <a:pt x="544" y="137"/>
                </a:lnTo>
                <a:lnTo>
                  <a:pt x="0" y="137"/>
                </a:lnTo>
                <a:lnTo>
                  <a:pt x="0" y="817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388360" y="479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8736200">
            <a:off x="6298920" y="3933360"/>
            <a:ext cx="1513080" cy="1296720"/>
          </a:xfrm>
          <a:custGeom>
            <a:avLst/>
            <a:gdLst>
              <a:gd name="textAreaLeft" fmla="*/ 623520 w 1513080"/>
              <a:gd name="textAreaRight" fmla="*/ 889560 w 1513080"/>
              <a:gd name="textAreaTop" fmla="*/ 534240 h 1296720"/>
              <a:gd name="textAreaBottom" fmla="*/ 7624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020000" y="3860640"/>
            <a:ext cx="0" cy="50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908000" y="0"/>
            <a:ext cx="2737080" cy="1197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9640" y="0"/>
            <a:ext cx="1873080" cy="1197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7020000" y="558936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307280" y="198900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59640" y="5084640"/>
            <a:ext cx="647640" cy="289080"/>
            <a:chOff x="6659640" y="5084640"/>
            <a:chExt cx="647640" cy="289080"/>
          </a:xfrm>
        </p:grpSpPr>
        <p:sp>
          <p:nvSpPr>
            <p:cNvPr id="826" name=""/>
            <p:cNvSpPr/>
            <p:nvPr/>
          </p:nvSpPr>
          <p:spPr>
            <a:xfrm>
              <a:off x="6659640" y="5084640"/>
              <a:ext cx="647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659640" y="5229000"/>
              <a:ext cx="6476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7020000" y="4724280"/>
            <a:ext cx="934920" cy="433440"/>
          </a:xfrm>
          <a:custGeom>
            <a:avLst/>
            <a:gdLst/>
            <a:ahLst/>
            <a:rect l="l" t="t" r="r" b="b"/>
            <a:pathLst>
              <a:path w="589" h="273">
                <a:moveTo>
                  <a:pt x="0" y="0"/>
                </a:moveTo>
                <a:lnTo>
                  <a:pt x="0" y="273"/>
                </a:lnTo>
                <a:lnTo>
                  <a:pt x="0" y="137"/>
                </a:lnTo>
                <a:lnTo>
                  <a:pt x="589" y="137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874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05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95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68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79280" y="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un seul des contacts est ouvert le courant est interrompu, la chute de tension dans la résistance redevient nulle (RI) et la tension de « Mesure » à la masse remonte à 12 vo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340000" y="1341360"/>
            <a:ext cx="1847880" cy="22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846600" y="25956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66740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52916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62464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48784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58332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44508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54056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40412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819160" y="3157560"/>
            <a:ext cx="136440" cy="415800"/>
            <a:chOff x="2819160" y="3157560"/>
            <a:chExt cx="136440" cy="415800"/>
          </a:xfrm>
        </p:grpSpPr>
        <p:sp>
          <p:nvSpPr>
            <p:cNvPr id="842" name=""/>
            <p:cNvSpPr/>
            <p:nvPr/>
          </p:nvSpPr>
          <p:spPr>
            <a:xfrm>
              <a:off x="2955600" y="3157560"/>
              <a:ext cx="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2819160" y="31575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2819160" y="32961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2819160" y="336528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2819160" y="34347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2819160" y="322668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 flipH="1">
            <a:off x="2819160" y="25956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2819520" y="2316240"/>
            <a:ext cx="136440" cy="139680"/>
            <a:chOff x="2819520" y="2316240"/>
            <a:chExt cx="136440" cy="139680"/>
          </a:xfrm>
        </p:grpSpPr>
        <p:sp>
          <p:nvSpPr>
            <p:cNvPr id="850" name=""/>
            <p:cNvSpPr/>
            <p:nvPr/>
          </p:nvSpPr>
          <p:spPr>
            <a:xfrm flipV="1">
              <a:off x="2887560" y="231624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819520" y="2386080"/>
              <a:ext cx="13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55960" y="2595600"/>
            <a:ext cx="5200560" cy="760320"/>
          </a:xfrm>
          <a:custGeom>
            <a:avLst/>
            <a:gdLst/>
            <a:ahLst/>
            <a:rect l="l" t="t" r="r" b="b"/>
            <a:pathLst>
              <a:path w="8362" h="1017">
                <a:moveTo>
                  <a:pt x="8362" y="0"/>
                </a:moveTo>
                <a:lnTo>
                  <a:pt x="8362" y="1017"/>
                </a:lnTo>
                <a:lnTo>
                  <a:pt x="0" y="10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87560" y="2038320"/>
            <a:ext cx="1163880" cy="557280"/>
          </a:xfrm>
          <a:custGeom>
            <a:avLst/>
            <a:gdLst/>
            <a:ahLst/>
            <a:rect l="l" t="t" r="r" b="b"/>
            <a:pathLst>
              <a:path w="2034" h="904">
                <a:moveTo>
                  <a:pt x="2034" y="904"/>
                </a:moveTo>
                <a:lnTo>
                  <a:pt x="203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35200" y="1763640"/>
            <a:ext cx="1231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427640" y="2997360"/>
            <a:ext cx="342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364000" y="2997360"/>
            <a:ext cx="341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18360" y="2997360"/>
            <a:ext cx="341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236000" y="2997360"/>
            <a:ext cx="342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030480" y="2401920"/>
            <a:ext cx="8161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284720" y="1844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284720" y="1484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21964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21964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15636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5636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09308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09308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4032720" y="2301120"/>
            <a:ext cx="628200" cy="678600"/>
            <a:chOff x="4032720" y="2301120"/>
            <a:chExt cx="628200" cy="678600"/>
          </a:xfrm>
        </p:grpSpPr>
        <p:grpSp>
          <p:nvGrpSpPr>
            <p:cNvPr id="869" name=""/>
            <p:cNvGrpSpPr/>
            <p:nvPr/>
          </p:nvGrpSpPr>
          <p:grpSpPr>
            <a:xfrm>
              <a:off x="4331880" y="2594880"/>
              <a:ext cx="329040" cy="384840"/>
              <a:chOff x="4331880" y="2594880"/>
              <a:chExt cx="329040" cy="384840"/>
            </a:xfrm>
          </p:grpSpPr>
          <p:sp>
            <p:nvSpPr>
              <p:cNvPr id="870" name=""/>
              <p:cNvSpPr/>
              <p:nvPr/>
            </p:nvSpPr>
            <p:spPr>
              <a:xfrm>
                <a:off x="4331880" y="2594880"/>
                <a:ext cx="329040" cy="11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513600">
                <a:off x="4424400" y="2830320"/>
                <a:ext cx="13824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 rot="513600">
              <a:off x="4037400" y="23058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4952520" y="2320560"/>
            <a:ext cx="648000" cy="644040"/>
            <a:chOff x="4952520" y="2320560"/>
            <a:chExt cx="648000" cy="644040"/>
          </a:xfrm>
        </p:grpSpPr>
        <p:grpSp>
          <p:nvGrpSpPr>
            <p:cNvPr id="874" name=""/>
            <p:cNvGrpSpPr/>
            <p:nvPr/>
          </p:nvGrpSpPr>
          <p:grpSpPr>
            <a:xfrm>
              <a:off x="5265000" y="2594880"/>
              <a:ext cx="335520" cy="369720"/>
              <a:chOff x="5265000" y="2594880"/>
              <a:chExt cx="335520" cy="369720"/>
            </a:xfrm>
          </p:grpSpPr>
          <p:sp>
            <p:nvSpPr>
              <p:cNvPr id="875" name=""/>
              <p:cNvSpPr/>
              <p:nvPr/>
            </p:nvSpPr>
            <p:spPr>
              <a:xfrm>
                <a:off x="5265000" y="2594880"/>
                <a:ext cx="335520" cy="9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291600">
                <a:off x="5376600" y="2819160"/>
                <a:ext cx="1378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 rot="291600">
              <a:off x="4955400" y="2323440"/>
              <a:ext cx="7128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5902920" y="2302920"/>
            <a:ext cx="630000" cy="675360"/>
            <a:chOff x="5902920" y="2302920"/>
            <a:chExt cx="630000" cy="675360"/>
          </a:xfrm>
        </p:grpSpPr>
        <p:grpSp>
          <p:nvGrpSpPr>
            <p:cNvPr id="879" name=""/>
            <p:cNvGrpSpPr/>
            <p:nvPr/>
          </p:nvGrpSpPr>
          <p:grpSpPr>
            <a:xfrm>
              <a:off x="6203160" y="2594880"/>
              <a:ext cx="329760" cy="383400"/>
              <a:chOff x="6203160" y="2594880"/>
              <a:chExt cx="329760" cy="383400"/>
            </a:xfrm>
          </p:grpSpPr>
          <p:sp>
            <p:nvSpPr>
              <p:cNvPr id="880" name=""/>
              <p:cNvSpPr/>
              <p:nvPr/>
            </p:nvSpPr>
            <p:spPr>
              <a:xfrm>
                <a:off x="6203160" y="2594880"/>
                <a:ext cx="329760" cy="11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493200">
                <a:off x="6297840" y="2829240"/>
                <a:ext cx="13824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 rot="493200">
              <a:off x="5907600" y="23076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922440" y="2310840"/>
            <a:ext cx="644760" cy="649800"/>
            <a:chOff x="6922440" y="2310840"/>
            <a:chExt cx="644760" cy="649800"/>
          </a:xfrm>
        </p:grpSpPr>
        <p:grpSp>
          <p:nvGrpSpPr>
            <p:cNvPr id="884" name=""/>
            <p:cNvGrpSpPr/>
            <p:nvPr/>
          </p:nvGrpSpPr>
          <p:grpSpPr>
            <a:xfrm>
              <a:off x="7232400" y="2588400"/>
              <a:ext cx="334800" cy="372240"/>
              <a:chOff x="7232400" y="2588400"/>
              <a:chExt cx="334800" cy="372240"/>
            </a:xfrm>
          </p:grpSpPr>
          <p:sp>
            <p:nvSpPr>
              <p:cNvPr id="885" name=""/>
              <p:cNvSpPr/>
              <p:nvPr/>
            </p:nvSpPr>
            <p:spPr>
              <a:xfrm>
                <a:off x="7232400" y="2588400"/>
                <a:ext cx="334800" cy="10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328200">
                <a:off x="7341120" y="2814480"/>
                <a:ext cx="1378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 rot="328200">
              <a:off x="6925320" y="2313720"/>
              <a:ext cx="7128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2484360" y="2565360"/>
            <a:ext cx="57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556000" y="2565360"/>
            <a:ext cx="5616360" cy="790560"/>
          </a:xfrm>
          <a:custGeom>
            <a:avLst/>
            <a:gdLst/>
            <a:ahLst/>
            <a:rect l="l" t="t" r="r" b="b"/>
            <a:pathLst>
              <a:path w="3538" h="498">
                <a:moveTo>
                  <a:pt x="0" y="498"/>
                </a:moveTo>
                <a:lnTo>
                  <a:pt x="3538" y="498"/>
                </a:lnTo>
                <a:lnTo>
                  <a:pt x="3538" y="0"/>
                </a:lnTo>
                <a:lnTo>
                  <a:pt x="3153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771640" y="198900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680" y="363"/>
                </a:moveTo>
                <a:lnTo>
                  <a:pt x="998" y="363"/>
                </a:lnTo>
                <a:lnTo>
                  <a:pt x="816" y="363"/>
                </a:ln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771640" y="198900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680" y="363"/>
                </a:moveTo>
                <a:lnTo>
                  <a:pt x="998" y="363"/>
                </a:lnTo>
                <a:lnTo>
                  <a:pt x="816" y="363"/>
                </a:ln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643280" y="256536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80000" y="256536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516720" y="2565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755640" y="2060280"/>
            <a:ext cx="1944720" cy="1295280"/>
            <a:chOff x="755640" y="2060280"/>
            <a:chExt cx="1944720" cy="1295280"/>
          </a:xfrm>
        </p:grpSpPr>
        <p:sp>
          <p:nvSpPr>
            <p:cNvPr id="896" name=""/>
            <p:cNvSpPr/>
            <p:nvPr/>
          </p:nvSpPr>
          <p:spPr>
            <a:xfrm>
              <a:off x="1692360" y="2852640"/>
              <a:ext cx="100800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1692360" y="2060280"/>
              <a:ext cx="93672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55640" y="2276280"/>
              <a:ext cx="1008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755640" y="2060280"/>
            <a:ext cx="1944720" cy="1295280"/>
            <a:chOff x="755640" y="2060280"/>
            <a:chExt cx="1944720" cy="1295280"/>
          </a:xfrm>
        </p:grpSpPr>
        <p:sp>
          <p:nvSpPr>
            <p:cNvPr id="900" name=""/>
            <p:cNvSpPr/>
            <p:nvPr/>
          </p:nvSpPr>
          <p:spPr>
            <a:xfrm>
              <a:off x="1692360" y="2852640"/>
              <a:ext cx="100800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1692360" y="2060280"/>
              <a:ext cx="93672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55640" y="2276280"/>
              <a:ext cx="1008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395280" y="18900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autoriser le fonctionnement du toit souple il faut être sur que les 4 contacts soient enfon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419640" y="285264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95280" y="33336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urant se met à circuler dans la résistance mais la tension mesurée par l’ordinateur est nulle : « Mesure »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11280" y="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ouverts le courant ne peut pas circuler donc la chute de tension est nulle dans la ré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843280" y="2565360"/>
            <a:ext cx="1152360" cy="1224000"/>
            <a:chOff x="2843280" y="2565360"/>
            <a:chExt cx="1152360" cy="1224000"/>
          </a:xfrm>
        </p:grpSpPr>
        <p:sp>
          <p:nvSpPr>
            <p:cNvPr id="908" name=""/>
            <p:cNvSpPr/>
            <p:nvPr/>
          </p:nvSpPr>
          <p:spPr>
            <a:xfrm flipV="1">
              <a:off x="3780000" y="2565360"/>
              <a:ext cx="215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2843280" y="263664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16360" y="285264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755640" y="2276640"/>
            <a:ext cx="1944720" cy="1079280"/>
            <a:chOff x="755640" y="2276640"/>
            <a:chExt cx="1944720" cy="1079280"/>
          </a:xfrm>
        </p:grpSpPr>
        <p:sp>
          <p:nvSpPr>
            <p:cNvPr id="912" name=""/>
            <p:cNvSpPr/>
            <p:nvPr/>
          </p:nvSpPr>
          <p:spPr>
            <a:xfrm>
              <a:off x="1692360" y="285264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92360" y="2492280"/>
              <a:ext cx="718920" cy="7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55640" y="2276640"/>
              <a:ext cx="100800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395280" y="407664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es 4 capteurs sont actionnés « Mesure » est à 0 : (Si A . B . C .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395280" y="5013360"/>
            <a:ext cx="8820000" cy="947160"/>
            <a:chOff x="395280" y="5013360"/>
            <a:chExt cx="8820000" cy="947160"/>
          </a:xfrm>
        </p:grpSpPr>
        <p:sp>
          <p:nvSpPr>
            <p:cNvPr id="917" name=""/>
            <p:cNvSpPr/>
            <p:nvPr/>
          </p:nvSpPr>
          <p:spPr>
            <a:xfrm>
              <a:off x="395280" y="5013360"/>
              <a:ext cx="882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 un seul des capteurs n’est pas actionné « Mesure » est à 1 (Si A + B + C + D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95280" y="5518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842920" y="5518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38560" y="5518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90920" y="5518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95280" y="5911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s de coupure « Mesure » est toujours à 1 et le moteur n’est pas autorisé à fonctio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642920" y="2565360"/>
            <a:ext cx="36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4788000" y="2420640"/>
            <a:ext cx="433440" cy="360360"/>
            <a:chOff x="4788000" y="2420640"/>
            <a:chExt cx="433440" cy="360360"/>
          </a:xfrm>
        </p:grpSpPr>
        <p:sp>
          <p:nvSpPr>
            <p:cNvPr id="925" name=""/>
            <p:cNvSpPr/>
            <p:nvPr/>
          </p:nvSpPr>
          <p:spPr>
            <a:xfrm>
              <a:off x="4788000" y="2421000"/>
              <a:ext cx="433440" cy="358920"/>
            </a:xfrm>
            <a:prstGeom prst="parallelogram">
              <a:avLst>
                <a:gd name="adj" fmla="val 925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932360" y="242064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788000" y="242064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95280" y="170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6836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16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25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34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43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1" dur="3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3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103" dur="3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3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8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7" dur="3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3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6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138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2340000" y="2563920"/>
            <a:ext cx="1819080" cy="25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76480" y="3533760"/>
            <a:ext cx="7286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705120" y="3727440"/>
            <a:ext cx="6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2703600" y="4308120"/>
            <a:ext cx="182160" cy="582840"/>
            <a:chOff x="2703600" y="4308120"/>
            <a:chExt cx="182160" cy="582840"/>
          </a:xfrm>
        </p:grpSpPr>
        <p:sp>
          <p:nvSpPr>
            <p:cNvPr id="934" name=""/>
            <p:cNvSpPr/>
            <p:nvPr/>
          </p:nvSpPr>
          <p:spPr>
            <a:xfrm>
              <a:off x="2885760" y="430848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2703600" y="430812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2703600" y="450216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2703600" y="459936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2703600" y="4696560"/>
              <a:ext cx="18216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2703600" y="4405320"/>
              <a:ext cx="18216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"/>
          <p:cNvSpPr/>
          <p:nvPr/>
        </p:nvSpPr>
        <p:spPr>
          <a:xfrm flipH="1">
            <a:off x="2703600" y="372744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2703600" y="3436920"/>
            <a:ext cx="182520" cy="193680"/>
            <a:chOff x="2703600" y="3436920"/>
            <a:chExt cx="182520" cy="193680"/>
          </a:xfrm>
        </p:grpSpPr>
        <p:sp>
          <p:nvSpPr>
            <p:cNvPr id="942" name=""/>
            <p:cNvSpPr/>
            <p:nvPr/>
          </p:nvSpPr>
          <p:spPr>
            <a:xfrm flipV="1">
              <a:off x="2794680" y="3436920"/>
              <a:ext cx="0" cy="19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03600" y="3533760"/>
              <a:ext cx="18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"/>
          <p:cNvSpPr/>
          <p:nvPr/>
        </p:nvSpPr>
        <p:spPr>
          <a:xfrm flipV="1">
            <a:off x="2886120" y="4502880"/>
            <a:ext cx="4822920" cy="96840"/>
          </a:xfrm>
          <a:custGeom>
            <a:avLst/>
            <a:gdLst/>
            <a:ahLst/>
            <a:rect l="l" t="t" r="r" b="b"/>
            <a:pathLst>
              <a:path w="8588" h="1">
                <a:moveTo>
                  <a:pt x="8588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703600" y="3144960"/>
            <a:ext cx="1274760" cy="582480"/>
          </a:xfrm>
          <a:custGeom>
            <a:avLst/>
            <a:gdLst/>
            <a:ahLst/>
            <a:rect l="l" t="t" r="r" b="b"/>
            <a:pathLst>
              <a:path w="2034" h="904">
                <a:moveTo>
                  <a:pt x="2034" y="904"/>
                </a:moveTo>
                <a:lnTo>
                  <a:pt x="203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430360" y="2854440"/>
            <a:ext cx="1638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32320" y="3851280"/>
            <a:ext cx="530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469440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33224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433840" y="3851280"/>
            <a:ext cx="52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95620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569736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95476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95620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343560" y="3851280"/>
            <a:ext cx="52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86592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60708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86448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6592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162920" y="3851280"/>
            <a:ext cx="528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68492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742644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68348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68492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341960" y="3727440"/>
            <a:ext cx="33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716360" y="3068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71636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653080" y="3068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65308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589800" y="3068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58980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381800" y="3068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38180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4628880" y="3643200"/>
            <a:ext cx="447840" cy="755640"/>
            <a:chOff x="4628880" y="3643200"/>
            <a:chExt cx="447840" cy="755640"/>
          </a:xfrm>
        </p:grpSpPr>
        <p:grpSp>
          <p:nvGrpSpPr>
            <p:cNvPr id="977" name=""/>
            <p:cNvGrpSpPr/>
            <p:nvPr/>
          </p:nvGrpSpPr>
          <p:grpSpPr>
            <a:xfrm>
              <a:off x="4628880" y="3995640"/>
              <a:ext cx="387720" cy="403200"/>
              <a:chOff x="4628880" y="3995640"/>
              <a:chExt cx="387720" cy="403200"/>
            </a:xfrm>
          </p:grpSpPr>
          <p:sp>
            <p:nvSpPr>
              <p:cNvPr id="978" name=""/>
              <p:cNvSpPr/>
              <p:nvPr/>
            </p:nvSpPr>
            <p:spPr>
              <a:xfrm>
                <a:off x="495144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5400000">
                <a:off x="462708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500364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5651280" y="3643200"/>
            <a:ext cx="447840" cy="755640"/>
            <a:chOff x="5651280" y="3643200"/>
            <a:chExt cx="447840" cy="755640"/>
          </a:xfrm>
        </p:grpSpPr>
        <p:grpSp>
          <p:nvGrpSpPr>
            <p:cNvPr id="982" name=""/>
            <p:cNvGrpSpPr/>
            <p:nvPr/>
          </p:nvGrpSpPr>
          <p:grpSpPr>
            <a:xfrm>
              <a:off x="5651280" y="3995640"/>
              <a:ext cx="387720" cy="403200"/>
              <a:chOff x="5651280" y="3995640"/>
              <a:chExt cx="387720" cy="403200"/>
            </a:xfrm>
          </p:grpSpPr>
          <p:sp>
            <p:nvSpPr>
              <p:cNvPr id="983" name=""/>
              <p:cNvSpPr/>
              <p:nvPr/>
            </p:nvSpPr>
            <p:spPr>
              <a:xfrm>
                <a:off x="597384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5400000">
                <a:off x="564948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602604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6557760" y="3643200"/>
            <a:ext cx="447840" cy="755640"/>
            <a:chOff x="6557760" y="3643200"/>
            <a:chExt cx="447840" cy="755640"/>
          </a:xfrm>
        </p:grpSpPr>
        <p:grpSp>
          <p:nvGrpSpPr>
            <p:cNvPr id="987" name=""/>
            <p:cNvGrpSpPr/>
            <p:nvPr/>
          </p:nvGrpSpPr>
          <p:grpSpPr>
            <a:xfrm>
              <a:off x="6557760" y="3995640"/>
              <a:ext cx="387720" cy="403200"/>
              <a:chOff x="6557760" y="3995640"/>
              <a:chExt cx="387720" cy="403200"/>
            </a:xfrm>
          </p:grpSpPr>
          <p:sp>
            <p:nvSpPr>
              <p:cNvPr id="988" name=""/>
              <p:cNvSpPr/>
              <p:nvPr/>
            </p:nvSpPr>
            <p:spPr>
              <a:xfrm>
                <a:off x="688032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5400000">
                <a:off x="655596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>
              <a:off x="693252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380000" y="3643200"/>
            <a:ext cx="447840" cy="755640"/>
            <a:chOff x="7380000" y="3643200"/>
            <a:chExt cx="447840" cy="755640"/>
          </a:xfrm>
        </p:grpSpPr>
        <p:grpSp>
          <p:nvGrpSpPr>
            <p:cNvPr id="992" name=""/>
            <p:cNvGrpSpPr/>
            <p:nvPr/>
          </p:nvGrpSpPr>
          <p:grpSpPr>
            <a:xfrm>
              <a:off x="7380000" y="3995640"/>
              <a:ext cx="387720" cy="403200"/>
              <a:chOff x="7380000" y="3995640"/>
              <a:chExt cx="387720" cy="403200"/>
            </a:xfrm>
          </p:grpSpPr>
          <p:sp>
            <p:nvSpPr>
              <p:cNvPr id="993" name=""/>
              <p:cNvSpPr/>
              <p:nvPr/>
            </p:nvSpPr>
            <p:spPr>
              <a:xfrm>
                <a:off x="770256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5400000">
                <a:off x="737820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775476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411280" y="3716280"/>
            <a:ext cx="57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556000" y="4363920"/>
            <a:ext cx="5111640" cy="216000"/>
          </a:xfrm>
          <a:custGeom>
            <a:avLst/>
            <a:gdLst/>
            <a:ahLst/>
            <a:rect l="l" t="t" r="r" b="b"/>
            <a:pathLst>
              <a:path w="3220" h="136">
                <a:moveTo>
                  <a:pt x="3220" y="0"/>
                </a:moveTo>
                <a:lnTo>
                  <a:pt x="3220" y="136"/>
                </a:lnTo>
                <a:lnTo>
                  <a:pt x="2722" y="136"/>
                </a:lnTo>
                <a:lnTo>
                  <a:pt x="2722" y="0"/>
                </a:lnTo>
                <a:lnTo>
                  <a:pt x="2722" y="136"/>
                </a:lnTo>
                <a:lnTo>
                  <a:pt x="2132" y="136"/>
                </a:lnTo>
                <a:lnTo>
                  <a:pt x="2132" y="0"/>
                </a:lnTo>
                <a:lnTo>
                  <a:pt x="2132" y="136"/>
                </a:lnTo>
                <a:lnTo>
                  <a:pt x="1497" y="136"/>
                </a:lnTo>
                <a:lnTo>
                  <a:pt x="1497" y="0"/>
                </a:lnTo>
                <a:lnTo>
                  <a:pt x="1497" y="136"/>
                </a:lnTo>
                <a:lnTo>
                  <a:pt x="0" y="13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627280" y="3139920"/>
            <a:ext cx="5040360" cy="936720"/>
          </a:xfrm>
          <a:custGeom>
            <a:avLst/>
            <a:gdLst/>
            <a:ahLst/>
            <a:rect l="l" t="t" r="r" b="b"/>
            <a:pathLst>
              <a:path w="3175" h="590">
                <a:moveTo>
                  <a:pt x="0" y="0"/>
                </a:moveTo>
                <a:lnTo>
                  <a:pt x="862" y="0"/>
                </a:lnTo>
                <a:lnTo>
                  <a:pt x="862" y="363"/>
                </a:lnTo>
                <a:lnTo>
                  <a:pt x="681" y="363"/>
                </a:lnTo>
                <a:lnTo>
                  <a:pt x="1452" y="363"/>
                </a:lnTo>
                <a:lnTo>
                  <a:pt x="1452" y="544"/>
                </a:lnTo>
                <a:lnTo>
                  <a:pt x="1452" y="363"/>
                </a:lnTo>
                <a:lnTo>
                  <a:pt x="2087" y="363"/>
                </a:lnTo>
                <a:lnTo>
                  <a:pt x="2087" y="544"/>
                </a:lnTo>
                <a:lnTo>
                  <a:pt x="2087" y="363"/>
                </a:lnTo>
                <a:lnTo>
                  <a:pt x="2677" y="363"/>
                </a:lnTo>
                <a:lnTo>
                  <a:pt x="2677" y="544"/>
                </a:lnTo>
                <a:lnTo>
                  <a:pt x="2677" y="363"/>
                </a:lnTo>
                <a:lnTo>
                  <a:pt x="3175" y="363"/>
                </a:lnTo>
                <a:lnTo>
                  <a:pt x="3175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3141720"/>
            <a:ext cx="5040360" cy="936720"/>
          </a:xfrm>
          <a:custGeom>
            <a:avLst/>
            <a:gdLst/>
            <a:ahLst/>
            <a:rect l="l" t="t" r="r" b="b"/>
            <a:pathLst>
              <a:path w="3175" h="590">
                <a:moveTo>
                  <a:pt x="0" y="0"/>
                </a:moveTo>
                <a:lnTo>
                  <a:pt x="862" y="0"/>
                </a:lnTo>
                <a:lnTo>
                  <a:pt x="862" y="363"/>
                </a:lnTo>
                <a:lnTo>
                  <a:pt x="681" y="363"/>
                </a:lnTo>
                <a:lnTo>
                  <a:pt x="1452" y="363"/>
                </a:lnTo>
                <a:lnTo>
                  <a:pt x="1452" y="544"/>
                </a:lnTo>
                <a:lnTo>
                  <a:pt x="1452" y="363"/>
                </a:lnTo>
                <a:lnTo>
                  <a:pt x="2087" y="363"/>
                </a:lnTo>
                <a:lnTo>
                  <a:pt x="2087" y="544"/>
                </a:lnTo>
                <a:lnTo>
                  <a:pt x="2087" y="363"/>
                </a:lnTo>
                <a:lnTo>
                  <a:pt x="2677" y="363"/>
                </a:lnTo>
                <a:lnTo>
                  <a:pt x="2677" y="544"/>
                </a:lnTo>
                <a:lnTo>
                  <a:pt x="2677" y="363"/>
                </a:lnTo>
                <a:lnTo>
                  <a:pt x="3175" y="363"/>
                </a:lnTo>
                <a:lnTo>
                  <a:pt x="3175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684360" y="3213000"/>
            <a:ext cx="1944720" cy="1295640"/>
            <a:chOff x="684360" y="3213000"/>
            <a:chExt cx="1944720" cy="1295640"/>
          </a:xfrm>
        </p:grpSpPr>
        <p:sp>
          <p:nvSpPr>
            <p:cNvPr id="1001" name=""/>
            <p:cNvSpPr/>
            <p:nvPr/>
          </p:nvSpPr>
          <p:spPr>
            <a:xfrm>
              <a:off x="1621080" y="400536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1621080" y="3213000"/>
              <a:ext cx="93672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4360" y="3429000"/>
              <a:ext cx="100836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2843280" y="3716280"/>
            <a:ext cx="1152360" cy="1224000"/>
            <a:chOff x="2843280" y="3716280"/>
            <a:chExt cx="1152360" cy="1224000"/>
          </a:xfrm>
        </p:grpSpPr>
        <p:sp>
          <p:nvSpPr>
            <p:cNvPr id="1005" name=""/>
            <p:cNvSpPr/>
            <p:nvPr/>
          </p:nvSpPr>
          <p:spPr>
            <a:xfrm flipV="1">
              <a:off x="3780000" y="3716280"/>
              <a:ext cx="215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flipV="1">
              <a:off x="2843280" y="378756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16360" y="400356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324000" y="1268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alculateur mesure 0 volts et interdit le fonctionnement du moteur du toit so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84360" y="508464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 . B . C . D sont actionnés ( à 1), « Mesure » passe à 1 et le calculateur autorise le fonctionnement du t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324000" y="260280"/>
            <a:ext cx="8353440" cy="947160"/>
            <a:chOff x="324000" y="260280"/>
            <a:chExt cx="8353440" cy="947160"/>
          </a:xfrm>
        </p:grpSpPr>
        <p:sp>
          <p:nvSpPr>
            <p:cNvPr id="1011" name=""/>
            <p:cNvSpPr/>
            <p:nvPr/>
          </p:nvSpPr>
          <p:spPr>
            <a:xfrm>
              <a:off x="324000" y="260280"/>
              <a:ext cx="8353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nt qu’il y a un capteur au repos ( A + B + C + D) le courant circule dans la résistance et RI = 12 vol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1200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65964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08720" y="33336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95672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684360" y="3213000"/>
            <a:ext cx="1944720" cy="1295640"/>
            <a:chOff x="684360" y="3213000"/>
            <a:chExt cx="1944720" cy="1295640"/>
          </a:xfrm>
        </p:grpSpPr>
        <p:sp>
          <p:nvSpPr>
            <p:cNvPr id="1017" name=""/>
            <p:cNvSpPr/>
            <p:nvPr/>
          </p:nvSpPr>
          <p:spPr>
            <a:xfrm>
              <a:off x="1621080" y="400536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1621080" y="3213000"/>
              <a:ext cx="93672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4360" y="3429000"/>
              <a:ext cx="100836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627280" y="3573360"/>
            <a:ext cx="13683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218200" y="3499920"/>
            <a:ext cx="433440" cy="360360"/>
            <a:chOff x="5218200" y="3499920"/>
            <a:chExt cx="433440" cy="360360"/>
          </a:xfrm>
        </p:grpSpPr>
        <p:sp>
          <p:nvSpPr>
            <p:cNvPr id="1022" name=""/>
            <p:cNvSpPr/>
            <p:nvPr/>
          </p:nvSpPr>
          <p:spPr>
            <a:xfrm>
              <a:off x="5218200" y="3500280"/>
              <a:ext cx="433440" cy="358920"/>
            </a:xfrm>
            <a:prstGeom prst="parallelogram">
              <a:avLst>
                <a:gd name="adj" fmla="val 925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5362560" y="349992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5218200" y="349992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5280" y="40464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s de coupure le calculateur peut autoriser le fonctionnement du moteur et le mécanisme peut être endommagé. Pour cette raison c’est la solution des contacteurs « normalement ouverts » en série qui a été ret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508720" y="3716280"/>
            <a:ext cx="2158920" cy="360360"/>
          </a:xfrm>
          <a:custGeom>
            <a:avLst/>
            <a:gdLst/>
            <a:ahLst/>
            <a:rect l="l" t="t" r="r" b="b"/>
            <a:pathLst>
              <a:path w="1360" h="227">
                <a:moveTo>
                  <a:pt x="1360" y="227"/>
                </a:moveTo>
                <a:lnTo>
                  <a:pt x="1360" y="0"/>
                </a:lnTo>
                <a:lnTo>
                  <a:pt x="862" y="0"/>
                </a:lnTo>
                <a:lnTo>
                  <a:pt x="862" y="227"/>
                </a:lnTo>
                <a:lnTo>
                  <a:pt x="862" y="0"/>
                </a:lnTo>
                <a:lnTo>
                  <a:pt x="272" y="0"/>
                </a:lnTo>
                <a:lnTo>
                  <a:pt x="272" y="227"/>
                </a:ln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50920" y="2924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24000" y="256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3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67" dur="2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76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85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210" dur="3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2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5" dur="3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3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3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3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6" dur="3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126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"/>
          <p:cNvGrpSpPr/>
          <p:nvPr/>
        </p:nvGrpSpPr>
        <p:grpSpPr>
          <a:xfrm>
            <a:off x="2916360" y="3213000"/>
            <a:ext cx="1163520" cy="2448000"/>
            <a:chOff x="2916360" y="3213000"/>
            <a:chExt cx="1163520" cy="2448000"/>
          </a:xfrm>
        </p:grpSpPr>
        <p:sp>
          <p:nvSpPr>
            <p:cNvPr id="1030" name=""/>
            <p:cNvSpPr/>
            <p:nvPr/>
          </p:nvSpPr>
          <p:spPr>
            <a:xfrm>
              <a:off x="291636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tie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16360" y="370188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16360" y="419256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16360" y="468144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16360" y="517212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479520" y="3213000"/>
            <a:ext cx="2325600" cy="2448000"/>
            <a:chOff x="479520" y="3213000"/>
            <a:chExt cx="2325600" cy="2448000"/>
          </a:xfrm>
        </p:grpSpPr>
        <p:sp>
          <p:nvSpPr>
            <p:cNvPr id="1036" name=""/>
            <p:cNvSpPr/>
            <p:nvPr/>
          </p:nvSpPr>
          <p:spPr>
            <a:xfrm>
              <a:off x="47952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é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643040" y="3213000"/>
              <a:ext cx="116208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é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9520" y="370188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9520" y="419256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43040" y="3701880"/>
              <a:ext cx="116208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43040" y="4192560"/>
              <a:ext cx="116208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79520" y="468144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79520" y="517212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43040" y="4681440"/>
              <a:ext cx="116208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43040" y="5172120"/>
              <a:ext cx="116208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de vérité d’un complémen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1763640" y="981000"/>
            <a:ext cx="5545080" cy="703440"/>
            <a:chOff x="1763640" y="981000"/>
            <a:chExt cx="5545080" cy="703440"/>
          </a:xfrm>
        </p:grpSpPr>
        <p:sp>
          <p:nvSpPr>
            <p:cNvPr id="1048" name=""/>
            <p:cNvSpPr/>
            <p:nvPr/>
          </p:nvSpPr>
          <p:spPr>
            <a:xfrm>
              <a:off x="1763640" y="981000"/>
              <a:ext cx="554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xemple : 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84360" y="981000"/>
              <a:ext cx="12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1547640" y="1989000"/>
            <a:ext cx="1729080" cy="703440"/>
            <a:chOff x="1547640" y="1989000"/>
            <a:chExt cx="1729080" cy="703440"/>
          </a:xfrm>
        </p:grpSpPr>
        <p:sp>
          <p:nvSpPr>
            <p:cNvPr id="1051" name=""/>
            <p:cNvSpPr/>
            <p:nvPr/>
          </p:nvSpPr>
          <p:spPr>
            <a:xfrm>
              <a:off x="1547640" y="1989000"/>
              <a:ext cx="17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33520" y="1989000"/>
              <a:ext cx="381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476360" y="198900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564000" y="3213000"/>
            <a:ext cx="1163520" cy="2448000"/>
            <a:chOff x="3564000" y="3213000"/>
            <a:chExt cx="1163520" cy="2448000"/>
          </a:xfrm>
        </p:grpSpPr>
        <p:sp>
          <p:nvSpPr>
            <p:cNvPr id="1055" name=""/>
            <p:cNvSpPr/>
            <p:nvPr/>
          </p:nvSpPr>
          <p:spPr>
            <a:xfrm>
              <a:off x="356400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tie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64000" y="370188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64000" y="419256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64000" y="468144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64000" y="517212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924360" y="1844640"/>
            <a:ext cx="4968720" cy="1584360"/>
            <a:chOff x="3924360" y="1844640"/>
            <a:chExt cx="4968720" cy="1584360"/>
          </a:xfrm>
        </p:grpSpPr>
        <p:sp>
          <p:nvSpPr>
            <p:cNvPr id="1061" name=""/>
            <p:cNvSpPr/>
            <p:nvPr/>
          </p:nvSpPr>
          <p:spPr>
            <a:xfrm>
              <a:off x="4150080" y="233208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4940640" y="1844640"/>
              <a:ext cx="0" cy="974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40640" y="184464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730840" y="1844640"/>
              <a:ext cx="564480" cy="243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8780040" y="2088360"/>
              <a:ext cx="0" cy="487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295680" y="184464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086240" y="1844640"/>
              <a:ext cx="0" cy="974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40640" y="281952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30840" y="2819520"/>
              <a:ext cx="564480" cy="243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95680" y="281952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086240" y="2332080"/>
              <a:ext cx="677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763760" y="2088360"/>
              <a:ext cx="451440" cy="4874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215560" y="2332080"/>
              <a:ext cx="564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8780040" y="2088360"/>
              <a:ext cx="113040" cy="12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8780040" y="2210040"/>
              <a:ext cx="113040" cy="12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8780040" y="2331720"/>
              <a:ext cx="113040" cy="122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3924360" y="2088360"/>
              <a:ext cx="225720" cy="243360"/>
              <a:chOff x="3924360" y="2088360"/>
              <a:chExt cx="225720" cy="243360"/>
            </a:xfrm>
          </p:grpSpPr>
          <p:sp>
            <p:nvSpPr>
              <p:cNvPr id="1078" name=""/>
              <p:cNvSpPr/>
              <p:nvPr/>
            </p:nvSpPr>
            <p:spPr>
              <a:xfrm>
                <a:off x="3924360" y="2209680"/>
                <a:ext cx="2257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4037400" y="2088360"/>
                <a:ext cx="0" cy="243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5618160" y="1966680"/>
              <a:ext cx="677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618160" y="2941560"/>
              <a:ext cx="677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4859280" y="3933720"/>
            <a:ext cx="4032360" cy="1152720"/>
            <a:chOff x="4859280" y="3933720"/>
            <a:chExt cx="4032360" cy="1152720"/>
          </a:xfrm>
        </p:grpSpPr>
        <p:sp>
          <p:nvSpPr>
            <p:cNvPr id="1083" name=""/>
            <p:cNvSpPr/>
            <p:nvPr/>
          </p:nvSpPr>
          <p:spPr>
            <a:xfrm>
              <a:off x="7337520" y="4029120"/>
              <a:ext cx="694800" cy="720360"/>
            </a:xfrm>
            <a:prstGeom prst="flowChartSummingJunction">
              <a:avLst/>
            </a:prstGeom>
            <a:solidFill>
              <a:srgbClr val="00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8752680" y="4077360"/>
              <a:ext cx="0" cy="5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057520" y="4366080"/>
              <a:ext cx="694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8752680" y="407772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8752680" y="422172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8752680" y="436608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527520" y="4366080"/>
              <a:ext cx="8341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6527520" y="4077720"/>
              <a:ext cx="0" cy="288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693040" y="4221720"/>
              <a:ext cx="97308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997880" y="4366080"/>
              <a:ext cx="6951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971320" y="4510080"/>
              <a:ext cx="97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4859280" y="3933720"/>
              <a:ext cx="277920" cy="288000"/>
              <a:chOff x="4859280" y="3933720"/>
              <a:chExt cx="277920" cy="288000"/>
            </a:xfrm>
          </p:grpSpPr>
          <p:sp>
            <p:nvSpPr>
              <p:cNvPr id="1095" name=""/>
              <p:cNvSpPr/>
              <p:nvPr/>
            </p:nvSpPr>
            <p:spPr>
              <a:xfrm>
                <a:off x="4859280" y="4077360"/>
                <a:ext cx="2779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998240" y="3933720"/>
                <a:ext cx="0" cy="288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4859280" y="4005360"/>
            <a:ext cx="4032360" cy="1152000"/>
            <a:chOff x="4859280" y="4005360"/>
            <a:chExt cx="4032360" cy="1152000"/>
          </a:xfrm>
        </p:grpSpPr>
        <p:sp>
          <p:nvSpPr>
            <p:cNvPr id="1098" name=""/>
            <p:cNvSpPr/>
            <p:nvPr/>
          </p:nvSpPr>
          <p:spPr>
            <a:xfrm>
              <a:off x="7337520" y="4100400"/>
              <a:ext cx="695160" cy="720360"/>
            </a:xfrm>
            <a:prstGeom prst="flowChartSummingJunction">
              <a:avLst/>
            </a:prstGeom>
            <a:solidFill>
              <a:srgbClr val="00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8751960" y="4149360"/>
              <a:ext cx="0" cy="57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56440" y="4437000"/>
              <a:ext cx="69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8751960" y="4149000"/>
              <a:ext cx="139680" cy="144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8751960" y="4294080"/>
              <a:ext cx="139680" cy="142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8751960" y="4437000"/>
              <a:ext cx="13968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27880" y="4437000"/>
              <a:ext cx="834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5694480" y="4436640"/>
              <a:ext cx="820800" cy="286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4998960" y="4437000"/>
              <a:ext cx="69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72400" y="4581360"/>
              <a:ext cx="973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4859280" y="4005360"/>
              <a:ext cx="277920" cy="288720"/>
              <a:chOff x="4859280" y="4005360"/>
              <a:chExt cx="277920" cy="288720"/>
            </a:xfrm>
          </p:grpSpPr>
          <p:sp>
            <p:nvSpPr>
              <p:cNvPr id="1109" name=""/>
              <p:cNvSpPr/>
              <p:nvPr/>
            </p:nvSpPr>
            <p:spPr>
              <a:xfrm>
                <a:off x="4859280" y="4149360"/>
                <a:ext cx="2779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4998240" y="4005360"/>
                <a:ext cx="0" cy="28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1" name=""/>
          <p:cNvSpPr/>
          <p:nvPr/>
        </p:nvSpPr>
        <p:spPr>
          <a:xfrm>
            <a:off x="7337520" y="4024440"/>
            <a:ext cx="695160" cy="720720"/>
          </a:xfrm>
          <a:prstGeom prst="flowChartSummingJunction">
            <a:avLst/>
          </a:prstGeom>
          <a:solidFill>
            <a:srgbClr val="f6ec2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7335720" y="4027320"/>
            <a:ext cx="695520" cy="720720"/>
          </a:xfrm>
          <a:prstGeom prst="flowChartSummingJunction">
            <a:avLst/>
          </a:prstGeom>
          <a:solidFill>
            <a:srgbClr val="f6ec2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8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1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3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946840" y="153180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48440" y="19288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351480" y="1531800"/>
            <a:ext cx="338400" cy="530280"/>
            <a:chOff x="6351480" y="1531800"/>
            <a:chExt cx="338400" cy="530280"/>
          </a:xfrm>
        </p:grpSpPr>
        <p:sp>
          <p:nvSpPr>
            <p:cNvPr id="53" name=""/>
            <p:cNvSpPr/>
            <p:nvPr/>
          </p:nvSpPr>
          <p:spPr>
            <a:xfrm>
              <a:off x="6351480" y="17967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54520" y="153180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554520" y="15318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554520" y="16642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554520" y="17967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554520" y="19296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419880" y="2459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57920" y="2193840"/>
            <a:ext cx="541440" cy="5302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299360" y="2193840"/>
            <a:ext cx="337680" cy="530280"/>
            <a:chOff x="7299360" y="2193840"/>
            <a:chExt cx="337680" cy="530280"/>
          </a:xfrm>
        </p:grpSpPr>
        <p:sp>
          <p:nvSpPr>
            <p:cNvPr id="62" name=""/>
            <p:cNvSpPr/>
            <p:nvPr/>
          </p:nvSpPr>
          <p:spPr>
            <a:xfrm>
              <a:off x="7299360" y="245880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02040" y="21938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7502040" y="21938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7502040" y="23263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502040" y="245880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7502040" y="25916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554880" y="245916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53440" y="27972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402160" y="1797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02160" y="2459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24520" y="272412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073480" y="2341440"/>
            <a:ext cx="271800" cy="265320"/>
            <a:chOff x="5073480" y="2341440"/>
            <a:chExt cx="271800" cy="265320"/>
          </a:xfrm>
        </p:grpSpPr>
        <p:sp>
          <p:nvSpPr>
            <p:cNvPr id="74" name=""/>
            <p:cNvSpPr/>
            <p:nvPr/>
          </p:nvSpPr>
          <p:spPr>
            <a:xfrm>
              <a:off x="5209200" y="2341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3480" y="247392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483160" y="1109520"/>
            <a:ext cx="2824200" cy="66060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53440" y="47628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59200" y="179856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74680" y="24829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4760" y="2933640"/>
            <a:ext cx="64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2720" y="230364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4512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11320" y="2482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94200" y="24829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4160" y="1801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7040" y="1801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550960" y="16012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79712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727360" y="1619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32160" y="17953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4680" y="1795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27520" y="203832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36880" y="1557360"/>
            <a:ext cx="1239840" cy="384120"/>
            <a:chOff x="3836880" y="1557360"/>
            <a:chExt cx="1239840" cy="384120"/>
          </a:xfrm>
        </p:grpSpPr>
        <p:sp>
          <p:nvSpPr>
            <p:cNvPr id="94" name=""/>
            <p:cNvSpPr/>
            <p:nvPr/>
          </p:nvSpPr>
          <p:spPr>
            <a:xfrm flipV="1">
              <a:off x="3836880" y="1795320"/>
              <a:ext cx="5778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03640" y="15573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516040" y="2276640"/>
            <a:ext cx="1192320" cy="352440"/>
            <a:chOff x="2516040" y="2276640"/>
            <a:chExt cx="1192320" cy="352440"/>
          </a:xfrm>
        </p:grpSpPr>
        <p:sp>
          <p:nvSpPr>
            <p:cNvPr id="97" name=""/>
            <p:cNvSpPr/>
            <p:nvPr/>
          </p:nvSpPr>
          <p:spPr>
            <a:xfrm flipV="1">
              <a:off x="2516040" y="2482920"/>
              <a:ext cx="57816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35280" y="22766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459160" y="1695600"/>
            <a:ext cx="1320840" cy="293400"/>
            <a:chOff x="2459160" y="1695600"/>
            <a:chExt cx="1320840" cy="293400"/>
          </a:xfrm>
        </p:grpSpPr>
        <p:sp>
          <p:nvSpPr>
            <p:cNvPr id="100" name=""/>
            <p:cNvSpPr/>
            <p:nvPr/>
          </p:nvSpPr>
          <p:spPr>
            <a:xfrm>
              <a:off x="2459160" y="169560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8360" y="191628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956200" y="2060640"/>
            <a:ext cx="992160" cy="736200"/>
            <a:chOff x="5956200" y="2060640"/>
            <a:chExt cx="992160" cy="736200"/>
          </a:xfrm>
        </p:grpSpPr>
        <p:sp>
          <p:nvSpPr>
            <p:cNvPr id="103" name=""/>
            <p:cNvSpPr/>
            <p:nvPr/>
          </p:nvSpPr>
          <p:spPr>
            <a:xfrm flipV="1">
              <a:off x="5956200" y="245880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77080" y="206064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187280" y="2492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18360" y="182556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91440" y="2454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33336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1773000"/>
            <a:ext cx="3816360" cy="64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404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219640" y="0"/>
            <a:ext cx="1800360" cy="1700280"/>
            <a:chOff x="5219640" y="0"/>
            <a:chExt cx="1800360" cy="1700280"/>
          </a:xfrm>
        </p:grpSpPr>
        <p:sp>
          <p:nvSpPr>
            <p:cNvPr id="112" name=""/>
            <p:cNvSpPr/>
            <p:nvPr/>
          </p:nvSpPr>
          <p:spPr>
            <a:xfrm>
              <a:off x="5219640" y="0"/>
              <a:ext cx="1800360" cy="981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370200" y="836640"/>
              <a:ext cx="2890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8560" y="836640"/>
              <a:ext cx="288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708360" y="476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34290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500280"/>
            <a:ext cx="172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56360" y="2491920"/>
            <a:ext cx="1800360" cy="1797480"/>
            <a:chOff x="6156360" y="2491920"/>
            <a:chExt cx="1800360" cy="1797480"/>
          </a:xfrm>
        </p:grpSpPr>
        <p:sp>
          <p:nvSpPr>
            <p:cNvPr id="119" name=""/>
            <p:cNvSpPr/>
            <p:nvPr/>
          </p:nvSpPr>
          <p:spPr>
            <a:xfrm flipH="1" flipV="1">
              <a:off x="7380360" y="2492280"/>
              <a:ext cx="7128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588000" y="2491920"/>
              <a:ext cx="71640" cy="1368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360" y="3500280"/>
              <a:ext cx="1800360" cy="7891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796000" y="2349360"/>
            <a:ext cx="20160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47500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1125360"/>
            <a:ext cx="3816360" cy="64800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42100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8360" y="76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400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472428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s : BCc5=0, BCc6=0,Lampe étei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978440"/>
            <a:ext cx="327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ser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oloriage ma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icher les commentaires du présent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946840" y="153180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48440" y="19288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351480" y="1531800"/>
            <a:ext cx="338400" cy="530280"/>
            <a:chOff x="6351480" y="1531800"/>
            <a:chExt cx="338400" cy="530280"/>
          </a:xfrm>
        </p:grpSpPr>
        <p:sp>
          <p:nvSpPr>
            <p:cNvPr id="134" name=""/>
            <p:cNvSpPr/>
            <p:nvPr/>
          </p:nvSpPr>
          <p:spPr>
            <a:xfrm>
              <a:off x="6351480" y="17967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4520" y="153180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4520" y="15318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554520" y="16642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554520" y="17967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554520" y="19296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419880" y="2459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57920" y="2193840"/>
            <a:ext cx="541440" cy="5302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299360" y="2193840"/>
            <a:ext cx="337680" cy="530280"/>
            <a:chOff x="7299360" y="2193840"/>
            <a:chExt cx="337680" cy="530280"/>
          </a:xfrm>
        </p:grpSpPr>
        <p:sp>
          <p:nvSpPr>
            <p:cNvPr id="143" name=""/>
            <p:cNvSpPr/>
            <p:nvPr/>
          </p:nvSpPr>
          <p:spPr>
            <a:xfrm>
              <a:off x="7299360" y="245880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02040" y="21938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502040" y="21938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502040" y="23263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502040" y="245880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502040" y="25916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554880" y="245916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3440" y="27972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402160" y="1797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02160" y="2459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24520" y="272412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073480" y="2341440"/>
            <a:ext cx="271800" cy="265320"/>
            <a:chOff x="5073480" y="2341440"/>
            <a:chExt cx="271800" cy="265320"/>
          </a:xfrm>
        </p:grpSpPr>
        <p:sp>
          <p:nvSpPr>
            <p:cNvPr id="155" name=""/>
            <p:cNvSpPr/>
            <p:nvPr/>
          </p:nvSpPr>
          <p:spPr>
            <a:xfrm>
              <a:off x="5209200" y="2341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3480" y="247392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483160" y="1109520"/>
            <a:ext cx="2824200" cy="66060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3440" y="47628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59200" y="179856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74680" y="24829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30364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4512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11320" y="2482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94200" y="24829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4160" y="1801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7040" y="1801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50960" y="16012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41560" y="179712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727360" y="1619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32160" y="17953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14680" y="1795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27520" y="203832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911760" y="1397160"/>
            <a:ext cx="1109520" cy="704520"/>
            <a:chOff x="3911760" y="1397160"/>
            <a:chExt cx="1109520" cy="704520"/>
          </a:xfrm>
        </p:grpSpPr>
        <p:sp>
          <p:nvSpPr>
            <p:cNvPr id="174" name=""/>
            <p:cNvSpPr/>
            <p:nvPr/>
          </p:nvSpPr>
          <p:spPr>
            <a:xfrm flipV="1">
              <a:off x="3911760" y="1805040"/>
              <a:ext cx="516960" cy="296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661000">
              <a:off x="4939560" y="14054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588040" y="2118960"/>
            <a:ext cx="1068120" cy="667800"/>
            <a:chOff x="2588040" y="2118960"/>
            <a:chExt cx="1068120" cy="667800"/>
          </a:xfrm>
        </p:grpSpPr>
        <p:sp>
          <p:nvSpPr>
            <p:cNvPr id="177" name=""/>
            <p:cNvSpPr/>
            <p:nvPr/>
          </p:nvSpPr>
          <p:spPr>
            <a:xfrm flipV="1">
              <a:off x="2588040" y="2486880"/>
              <a:ext cx="515160" cy="29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637600">
              <a:off x="3574440" y="212760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459160" y="1695600"/>
            <a:ext cx="1320840" cy="293400"/>
            <a:chOff x="2459160" y="1695600"/>
            <a:chExt cx="1320840" cy="293400"/>
          </a:xfrm>
        </p:grpSpPr>
        <p:sp>
          <p:nvSpPr>
            <p:cNvPr id="180" name=""/>
            <p:cNvSpPr/>
            <p:nvPr/>
          </p:nvSpPr>
          <p:spPr>
            <a:xfrm>
              <a:off x="2459160" y="169560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08360" y="191628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956200" y="2060640"/>
            <a:ext cx="992160" cy="736200"/>
            <a:chOff x="5956200" y="2060640"/>
            <a:chExt cx="992160" cy="736200"/>
          </a:xfrm>
        </p:grpSpPr>
        <p:sp>
          <p:nvSpPr>
            <p:cNvPr id="183" name=""/>
            <p:cNvSpPr/>
            <p:nvPr/>
          </p:nvSpPr>
          <p:spPr>
            <a:xfrm flipV="1">
              <a:off x="5956200" y="245880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77080" y="206064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187280" y="2492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18360" y="182556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91440" y="2454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1700280"/>
            <a:ext cx="3889440" cy="14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219640" y="115920"/>
            <a:ext cx="1800360" cy="1700280"/>
            <a:chOff x="5219640" y="115920"/>
            <a:chExt cx="1800360" cy="1700280"/>
          </a:xfrm>
        </p:grpSpPr>
        <p:sp>
          <p:nvSpPr>
            <p:cNvPr id="190" name=""/>
            <p:cNvSpPr/>
            <p:nvPr/>
          </p:nvSpPr>
          <p:spPr>
            <a:xfrm>
              <a:off x="5219640" y="115920"/>
              <a:ext cx="1800360" cy="981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370200" y="952560"/>
              <a:ext cx="2890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78560" y="952560"/>
              <a:ext cx="288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419640" y="9079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260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92720" y="247500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1125360"/>
            <a:ext cx="3816360" cy="64800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2360" y="242100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17080" y="76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1708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9760" y="1790640"/>
            <a:ext cx="1513080" cy="720720"/>
          </a:xfrm>
          <a:custGeom>
            <a:avLst/>
            <a:gdLst/>
            <a:ahLst/>
            <a:rect l="l" t="t" r="r" b="b"/>
            <a:pathLst>
              <a:path w="953" h="454">
                <a:moveTo>
                  <a:pt x="681" y="454"/>
                </a:moveTo>
                <a:lnTo>
                  <a:pt x="953" y="454"/>
                </a:lnTo>
                <a:lnTo>
                  <a:pt x="953" y="227"/>
                </a:lnTo>
                <a:lnTo>
                  <a:pt x="0" y="227"/>
                </a:lnTo>
                <a:lnTo>
                  <a:pt x="0" y="0"/>
                </a:lnTo>
                <a:lnTo>
                  <a:pt x="318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773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258920" y="2933640"/>
            <a:ext cx="4537080" cy="2041200"/>
            <a:chOff x="1258920" y="2933640"/>
            <a:chExt cx="4537080" cy="2041200"/>
          </a:xfrm>
        </p:grpSpPr>
        <p:sp>
          <p:nvSpPr>
            <p:cNvPr id="203" name=""/>
            <p:cNvSpPr/>
            <p:nvPr/>
          </p:nvSpPr>
          <p:spPr>
            <a:xfrm>
              <a:off x="2444760" y="2933640"/>
              <a:ext cx="6494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3280" y="3357720"/>
              <a:ext cx="439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58920" y="4149720"/>
              <a:ext cx="345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A &amp; A = 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11280" y="4149720"/>
              <a:ext cx="64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771640" y="3068640"/>
              <a:ext cx="0" cy="79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2205000"/>
            <a:ext cx="64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9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5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213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222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53440" y="324792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234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483160" y="1560600"/>
            <a:ext cx="2824200" cy="6602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53440" y="927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59200" y="224964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27520" y="248904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836880" y="2008080"/>
            <a:ext cx="1239840" cy="384120"/>
            <a:chOff x="3836880" y="2008080"/>
            <a:chExt cx="1239840" cy="384120"/>
          </a:xfrm>
        </p:grpSpPr>
        <p:sp>
          <p:nvSpPr>
            <p:cNvPr id="253" name=""/>
            <p:cNvSpPr/>
            <p:nvPr/>
          </p:nvSpPr>
          <p:spPr>
            <a:xfrm flipV="1">
              <a:off x="3836880" y="2246040"/>
              <a:ext cx="5778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3640" y="200808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516040" y="2727360"/>
            <a:ext cx="1192320" cy="352440"/>
            <a:chOff x="2516040" y="2727360"/>
            <a:chExt cx="1192320" cy="352440"/>
          </a:xfrm>
        </p:grpSpPr>
        <p:sp>
          <p:nvSpPr>
            <p:cNvPr id="256" name=""/>
            <p:cNvSpPr/>
            <p:nvPr/>
          </p:nvSpPr>
          <p:spPr>
            <a:xfrm flipV="1">
              <a:off x="2516040" y="2933640"/>
              <a:ext cx="57816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35280" y="27273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259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262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157644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72360" y="287172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44000" y="344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17236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3429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155736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72360" y="285264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2276640"/>
            <a:ext cx="0" cy="72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95640" y="2276640"/>
            <a:ext cx="2508120" cy="1668240"/>
          </a:xfrm>
          <a:custGeom>
            <a:avLst/>
            <a:gdLst/>
            <a:ahLst/>
            <a:rect l="l" t="t" r="r" b="b"/>
            <a:pathLst>
              <a:path w="1580" h="1051">
                <a:moveTo>
                  <a:pt x="0" y="408"/>
                </a:moveTo>
                <a:cubicBezTo>
                  <a:pt x="132" y="676"/>
                  <a:pt x="264" y="945"/>
                  <a:pt x="498" y="998"/>
                </a:cubicBezTo>
                <a:cubicBezTo>
                  <a:pt x="732" y="1051"/>
                  <a:pt x="1232" y="891"/>
                  <a:pt x="1406" y="725"/>
                </a:cubicBezTo>
                <a:cubicBezTo>
                  <a:pt x="1580" y="559"/>
                  <a:pt x="1519" y="121"/>
                  <a:pt x="1542" y="0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2210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t circuit en commande (A ou 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8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285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294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51640" y="3429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306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483160" y="1560600"/>
            <a:ext cx="2824200" cy="6602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24720" y="1052640"/>
            <a:ext cx="1150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59200" y="224964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923640" y="1830240"/>
            <a:ext cx="1087920" cy="739800"/>
            <a:chOff x="3923640" y="1830240"/>
            <a:chExt cx="1087920" cy="739800"/>
          </a:xfrm>
        </p:grpSpPr>
        <p:sp>
          <p:nvSpPr>
            <p:cNvPr id="324" name=""/>
            <p:cNvSpPr/>
            <p:nvPr/>
          </p:nvSpPr>
          <p:spPr>
            <a:xfrm flipV="1">
              <a:off x="3923640" y="2256480"/>
              <a:ext cx="506880" cy="313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548200">
              <a:off x="4929480" y="18392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600280" y="2550960"/>
            <a:ext cx="1046160" cy="704880"/>
            <a:chOff x="2600280" y="2550960"/>
            <a:chExt cx="1046160" cy="704880"/>
          </a:xfrm>
        </p:grpSpPr>
        <p:sp>
          <p:nvSpPr>
            <p:cNvPr id="327" name=""/>
            <p:cNvSpPr/>
            <p:nvPr/>
          </p:nvSpPr>
          <p:spPr>
            <a:xfrm flipV="1">
              <a:off x="2600280" y="2937600"/>
              <a:ext cx="504360" cy="3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0515800">
              <a:off x="3564000" y="256032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330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333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836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, B=1, Lampe allumée, BCc5 =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7640" y="157644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372360" y="287172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44000" y="344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24400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44000" y="3500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155736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372360" y="285264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56360" y="2276640"/>
            <a:ext cx="0" cy="72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49360" y="1227240"/>
            <a:ext cx="936720" cy="99540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32360" y="4653000"/>
            <a:ext cx="38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t circuit en commande (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3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358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367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51640" y="3429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379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524720" y="1052640"/>
            <a:ext cx="1150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808440" y="2154240"/>
            <a:ext cx="1296720" cy="87480"/>
            <a:chOff x="3808440" y="2154240"/>
            <a:chExt cx="1296720" cy="87480"/>
          </a:xfrm>
        </p:grpSpPr>
        <p:sp>
          <p:nvSpPr>
            <p:cNvPr id="395" name=""/>
            <p:cNvSpPr/>
            <p:nvPr/>
          </p:nvSpPr>
          <p:spPr>
            <a:xfrm>
              <a:off x="3808440" y="2227320"/>
              <a:ext cx="595800" cy="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888000">
              <a:off x="5024160" y="21621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600280" y="2550960"/>
            <a:ext cx="1046160" cy="704880"/>
            <a:chOff x="2600280" y="2550960"/>
            <a:chExt cx="1046160" cy="704880"/>
          </a:xfrm>
        </p:grpSpPr>
        <p:sp>
          <p:nvSpPr>
            <p:cNvPr id="398" name=""/>
            <p:cNvSpPr/>
            <p:nvPr/>
          </p:nvSpPr>
          <p:spPr>
            <a:xfrm flipV="1">
              <a:off x="2600280" y="2937600"/>
              <a:ext cx="504360" cy="3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515800">
              <a:off x="3564000" y="256032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401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404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1, Lampe allumé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424400" y="159552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88360" y="35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05480" y="2892600"/>
            <a:ext cx="1871640" cy="93636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580000" y="3067920"/>
            <a:ext cx="936720" cy="43164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43280" y="4653000"/>
            <a:ext cx="381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t circuit en puiss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5600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95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26320" y="2878200"/>
            <a:ext cx="43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42320" y="33098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21560" y="3772080"/>
            <a:ext cx="611280" cy="11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7261200" y="2878200"/>
            <a:ext cx="363240" cy="574560"/>
            <a:chOff x="7261200" y="2878200"/>
            <a:chExt cx="363240" cy="574560"/>
          </a:xfrm>
        </p:grpSpPr>
        <p:sp>
          <p:nvSpPr>
            <p:cNvPr id="425" name=""/>
            <p:cNvSpPr/>
            <p:nvPr/>
          </p:nvSpPr>
          <p:spPr>
            <a:xfrm>
              <a:off x="7261200" y="316512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79000" y="28782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479000" y="287820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479000" y="302148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479000" y="3164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7479000" y="330912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5514840" y="388476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78440" y="3597120"/>
            <a:ext cx="582840" cy="574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332840" y="3596760"/>
            <a:ext cx="435960" cy="575280"/>
            <a:chOff x="7332840" y="3596760"/>
            <a:chExt cx="435960" cy="575280"/>
          </a:xfrm>
        </p:grpSpPr>
        <p:sp>
          <p:nvSpPr>
            <p:cNvPr id="434" name=""/>
            <p:cNvSpPr/>
            <p:nvPr/>
          </p:nvSpPr>
          <p:spPr>
            <a:xfrm>
              <a:off x="7332840" y="38847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23360" y="359712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623360" y="3596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623360" y="3740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7623360" y="3884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623360" y="402804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605640" y="3884760"/>
            <a:ext cx="727200" cy="1008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04000" y="4797360"/>
            <a:ext cx="123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242040" y="31654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460920" y="388476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78440" y="4172040"/>
            <a:ext cx="80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824520" y="37400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944960" y="3759120"/>
            <a:ext cx="290520" cy="287280"/>
            <a:chOff x="4944960" y="3759120"/>
            <a:chExt cx="290520" cy="287280"/>
          </a:xfrm>
        </p:grpSpPr>
        <p:sp>
          <p:nvSpPr>
            <p:cNvPr id="447" name=""/>
            <p:cNvSpPr/>
            <p:nvPr/>
          </p:nvSpPr>
          <p:spPr>
            <a:xfrm>
              <a:off x="5090040" y="3759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44960" y="390240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 flipV="1">
            <a:off x="4398840" y="3165120"/>
            <a:ext cx="19162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45200" y="2536920"/>
            <a:ext cx="2844720" cy="6476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667640" y="2492280"/>
            <a:ext cx="115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4136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1267920" y="3029040"/>
            <a:ext cx="628920" cy="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904680" y="302904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49320" y="317196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49320" y="288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849320" y="30286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940120" y="31719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449520" y="3171600"/>
            <a:ext cx="5810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030560" y="317196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317196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4952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59080" y="2884320"/>
            <a:ext cx="2035080" cy="287640"/>
          </a:xfrm>
          <a:custGeom>
            <a:avLst/>
            <a:gdLst/>
            <a:ahLst/>
            <a:rect l="l" t="t" r="r" b="b"/>
            <a:pathLst>
              <a:path w="1596" h="226">
                <a:moveTo>
                  <a:pt x="0" y="0"/>
                </a:moveTo>
                <a:lnTo>
                  <a:pt x="1596" y="0"/>
                </a:lnTo>
                <a:lnTo>
                  <a:pt x="1596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68360" y="2884320"/>
            <a:ext cx="290520" cy="287640"/>
            <a:chOff x="468360" y="2884320"/>
            <a:chExt cx="290520" cy="287640"/>
          </a:xfrm>
        </p:grpSpPr>
        <p:sp>
          <p:nvSpPr>
            <p:cNvPr id="465" name=""/>
            <p:cNvSpPr/>
            <p:nvPr/>
          </p:nvSpPr>
          <p:spPr>
            <a:xfrm>
              <a:off x="613440" y="288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360" y="302796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0, BCc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00000" y="2997360"/>
            <a:ext cx="35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6000" y="31417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35280" y="3141720"/>
            <a:ext cx="165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71640" y="2997360"/>
            <a:ext cx="187164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627280" y="2276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627280" y="2133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119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948360" y="1773360"/>
            <a:ext cx="0" cy="1008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995640" y="2492280"/>
            <a:ext cx="4032360" cy="649440"/>
          </a:xfrm>
          <a:custGeom>
            <a:avLst/>
            <a:gdLst/>
            <a:ahLst/>
            <a:rect l="l" t="t" r="r" b="b"/>
            <a:pathLst>
              <a:path w="2540" h="409">
                <a:moveTo>
                  <a:pt x="0" y="409"/>
                </a:moveTo>
                <a:lnTo>
                  <a:pt x="1769" y="409"/>
                </a:lnTo>
                <a:lnTo>
                  <a:pt x="771" y="409"/>
                </a:lnTo>
                <a:lnTo>
                  <a:pt x="771" y="0"/>
                </a:lnTo>
                <a:lnTo>
                  <a:pt x="254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17236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308360" y="3860640"/>
            <a:ext cx="3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6732720" y="3789360"/>
            <a:ext cx="57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435640" y="386064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19640" y="5157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012000" y="4292280"/>
            <a:ext cx="7272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524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578560" y="3176640"/>
            <a:ext cx="1152360" cy="129708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5640" y="4005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6826320" y="2878200"/>
            <a:ext cx="43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42320" y="33098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261200" y="2878200"/>
            <a:ext cx="363240" cy="574560"/>
            <a:chOff x="7261200" y="2878200"/>
            <a:chExt cx="363240" cy="574560"/>
          </a:xfrm>
        </p:grpSpPr>
        <p:sp>
          <p:nvSpPr>
            <p:cNvPr id="491" name=""/>
            <p:cNvSpPr/>
            <p:nvPr/>
          </p:nvSpPr>
          <p:spPr>
            <a:xfrm>
              <a:off x="7261200" y="316512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79000" y="28782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7479000" y="287820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479000" y="302148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479000" y="3164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479000" y="330912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514840" y="388476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78440" y="3597120"/>
            <a:ext cx="582840" cy="574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332840" y="3596760"/>
            <a:ext cx="435960" cy="575280"/>
            <a:chOff x="7332840" y="3596760"/>
            <a:chExt cx="435960" cy="575280"/>
          </a:xfrm>
        </p:grpSpPr>
        <p:sp>
          <p:nvSpPr>
            <p:cNvPr id="500" name=""/>
            <p:cNvSpPr/>
            <p:nvPr/>
          </p:nvSpPr>
          <p:spPr>
            <a:xfrm>
              <a:off x="7332840" y="38847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23360" y="359712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623360" y="3596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7623360" y="3740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623360" y="3884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7623360" y="402804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6605640" y="3884760"/>
            <a:ext cx="727200" cy="1008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04000" y="4797360"/>
            <a:ext cx="123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242040" y="31654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460920" y="388476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878440" y="4172040"/>
            <a:ext cx="80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824520" y="37400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944960" y="3759120"/>
            <a:ext cx="290520" cy="287280"/>
            <a:chOff x="4944960" y="3759120"/>
            <a:chExt cx="290520" cy="287280"/>
          </a:xfrm>
        </p:grpSpPr>
        <p:sp>
          <p:nvSpPr>
            <p:cNvPr id="513" name=""/>
            <p:cNvSpPr/>
            <p:nvPr/>
          </p:nvSpPr>
          <p:spPr>
            <a:xfrm>
              <a:off x="5090040" y="3759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944960" y="390240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 flipV="1">
            <a:off x="4398840" y="3165120"/>
            <a:ext cx="19162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245200" y="2536920"/>
            <a:ext cx="2844720" cy="6476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7640" y="2492280"/>
            <a:ext cx="115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34136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904680" y="302904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849320" y="317196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49320" y="288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849320" y="30286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40120" y="31719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449520" y="3171600"/>
            <a:ext cx="5810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30560" y="317196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0" y="317196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44952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59080" y="2884320"/>
            <a:ext cx="2035080" cy="287640"/>
          </a:xfrm>
          <a:custGeom>
            <a:avLst/>
            <a:gdLst/>
            <a:ahLst/>
            <a:rect l="l" t="t" r="r" b="b"/>
            <a:pathLst>
              <a:path w="1596" h="226">
                <a:moveTo>
                  <a:pt x="0" y="0"/>
                </a:moveTo>
                <a:lnTo>
                  <a:pt x="1596" y="0"/>
                </a:lnTo>
                <a:lnTo>
                  <a:pt x="1596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68360" y="2884320"/>
            <a:ext cx="290520" cy="287640"/>
            <a:chOff x="468360" y="2884320"/>
            <a:chExt cx="290520" cy="287640"/>
          </a:xfrm>
        </p:grpSpPr>
        <p:sp>
          <p:nvSpPr>
            <p:cNvPr id="530" name=""/>
            <p:cNvSpPr/>
            <p:nvPr/>
          </p:nvSpPr>
          <p:spPr>
            <a:xfrm>
              <a:off x="613440" y="288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8360" y="302796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, B=0, Lampe allumée, BCc5 = 1, BCc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00000" y="2997360"/>
            <a:ext cx="35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236000" y="31417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835280" y="3141720"/>
            <a:ext cx="165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72360" y="119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948360" y="1773360"/>
            <a:ext cx="0" cy="1008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17236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7308360" y="3933720"/>
            <a:ext cx="3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435640" y="386064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88000" y="5084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 = 0 v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6012000" y="4292280"/>
            <a:ext cx="7272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24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5640" y="4005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39640" y="2852640"/>
            <a:ext cx="1357200" cy="262080"/>
            <a:chOff x="539640" y="2852640"/>
            <a:chExt cx="1357200" cy="262080"/>
          </a:xfrm>
        </p:grpSpPr>
        <p:sp>
          <p:nvSpPr>
            <p:cNvPr id="547" name=""/>
            <p:cNvSpPr/>
            <p:nvPr/>
          </p:nvSpPr>
          <p:spPr>
            <a:xfrm flipH="1" flipV="1">
              <a:off x="1267920" y="3029040"/>
              <a:ext cx="62892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9640" y="2852640"/>
              <a:ext cx="7164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1835280" y="2529000"/>
            <a:ext cx="6192720" cy="612720"/>
          </a:xfrm>
          <a:custGeom>
            <a:avLst/>
            <a:gdLst/>
            <a:ahLst/>
            <a:rect l="l" t="t" r="r" b="b"/>
            <a:pathLst>
              <a:path w="3901" h="363">
                <a:moveTo>
                  <a:pt x="0" y="181"/>
                </a:moveTo>
                <a:lnTo>
                  <a:pt x="1588" y="181"/>
                </a:lnTo>
                <a:lnTo>
                  <a:pt x="1588" y="363"/>
                </a:lnTo>
                <a:lnTo>
                  <a:pt x="1361" y="363"/>
                </a:lnTo>
                <a:lnTo>
                  <a:pt x="3130" y="363"/>
                </a:lnTo>
                <a:lnTo>
                  <a:pt x="2132" y="363"/>
                </a:lnTo>
                <a:lnTo>
                  <a:pt x="2132" y="0"/>
                </a:lnTo>
                <a:lnTo>
                  <a:pt x="3901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20000" y="3429000"/>
            <a:ext cx="0" cy="3603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721560" y="3772080"/>
            <a:ext cx="1235160" cy="304560"/>
            <a:chOff x="6721560" y="3772080"/>
            <a:chExt cx="1235160" cy="304560"/>
          </a:xfrm>
        </p:grpSpPr>
        <p:sp>
          <p:nvSpPr>
            <p:cNvPr id="552" name=""/>
            <p:cNvSpPr/>
            <p:nvPr/>
          </p:nvSpPr>
          <p:spPr>
            <a:xfrm>
              <a:off x="6721560" y="3772080"/>
              <a:ext cx="611280" cy="11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85080" y="4005360"/>
              <a:ext cx="7164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6659640" y="4005360"/>
            <a:ext cx="7207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443640" y="407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732720" y="422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578560" y="3176640"/>
            <a:ext cx="1152360" cy="129708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667640" y="465300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92360" y="5057640"/>
            <a:ext cx="59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elais est alimenté mais n’a pas fonctionn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ure à la commande 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t circuit à la pu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588000" y="3933720"/>
            <a:ext cx="936720" cy="43200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732360" y="2781360"/>
            <a:ext cx="504720" cy="647640"/>
            <a:chOff x="6732360" y="2781360"/>
            <a:chExt cx="504720" cy="647640"/>
          </a:xfrm>
        </p:grpSpPr>
        <p:sp>
          <p:nvSpPr>
            <p:cNvPr id="563" name=""/>
            <p:cNvSpPr/>
            <p:nvPr/>
          </p:nvSpPr>
          <p:spPr>
            <a:xfrm flipH="1">
              <a:off x="6732360" y="27813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876720" y="27813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2124000" y="260280"/>
            <a:ext cx="3024360" cy="79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948360" y="260280"/>
            <a:ext cx="2195640" cy="79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440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68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2800000">
                                      <p:cBhvr>
                                        <p:cTn id="55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58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515280" y="4317840"/>
            <a:ext cx="6696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83240" y="33336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70700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7520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4340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0892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7108560" y="4262400"/>
            <a:ext cx="651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10892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67360" y="5067360"/>
            <a:ext cx="48132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10892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30960" y="5048280"/>
            <a:ext cx="853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19840" y="4251240"/>
            <a:ext cx="22356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2288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1000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2120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921200" y="45291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43600" y="3468600"/>
            <a:ext cx="74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24340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222520" y="1965240"/>
            <a:ext cx="1350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2288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1000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2120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92120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94200" y="76500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30920" y="1965240"/>
            <a:ext cx="2700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26120" y="2489040"/>
            <a:ext cx="87768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22880" y="2031840"/>
            <a:ext cx="20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0092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10092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22288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707724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1504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823160" y="487044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210200" y="465300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13676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074920" y="1700280"/>
            <a:ext cx="1368360" cy="3600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213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778200" y="51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21964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16320" y="2349360"/>
            <a:ext cx="186696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7090920" y="4292640"/>
            <a:ext cx="7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91280" y="4869000"/>
            <a:ext cx="865440" cy="21564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545" y="46"/>
                </a:moveTo>
                <a:lnTo>
                  <a:pt x="0" y="4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09128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299280" y="4581360"/>
            <a:ext cx="1512720" cy="1297080"/>
          </a:xfrm>
          <a:custGeom>
            <a:avLst/>
            <a:gdLst>
              <a:gd name="textAreaLeft" fmla="*/ 623160 w 1512720"/>
              <a:gd name="textAreaRight" fmla="*/ 889560 w 151272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956720" y="458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70692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162920" y="537372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287640" cy="216000"/>
          </a:xfrm>
          <a:custGeom>
            <a:avLst/>
            <a:gdLst>
              <a:gd name="textAreaLeft" fmla="*/ 13680 w 287640"/>
              <a:gd name="textAreaRight" fmla="*/ 273960 w 28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3" y="3794"/>
                </a:lnTo>
                <a:lnTo>
                  <a:pt x="213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2:35:29Z</dcterms:created>
  <dc:creator>paul2</dc:creator>
  <dc:description/>
  <dc:language>en-US</dc:language>
  <cp:lastModifiedBy>paul2</cp:lastModifiedBy>
  <dcterms:modified xsi:type="dcterms:W3CDTF">2007-05-26T08:38:11Z</dcterms:modified>
  <cp:revision>34</cp:revision>
  <dc:subject/>
  <dc:title>Diapositive 1</dc:title>
</cp:coreProperties>
</file>